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7DE6-C97A-4975-9185-5401BB5253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05BC-E3EA-4B29-96BB-6A1437BD81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ABA-E491-4308-A8B1-9AEA3B66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230-444A-4164-93D6-92DBFB62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490B-7074-4DFF-9B4F-77A39CF9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5D6F-74C0-4615-A1D0-A68D702D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8D11-91FE-406E-A96B-DBC56183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8E20-B4D5-4276-9DF7-B3B1C11F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AE87-2DF9-47F2-8101-3A1DE68B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C79D-3AA3-480E-A6D1-0007D588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780D-D1BD-41FD-8E37-FFE48560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AB40-2106-42AC-96DB-66A825C4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F3C3-902A-4D21-AF78-E20F7071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C198-CA1D-4C90-AF35-2801B938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EE82-4EBE-448F-8B5A-8126B845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090E-C76A-41CD-8C1E-4D2AD355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C9A0-8622-4802-97E0-EA1303A3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B755-8520-452C-8000-CD55D88A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3B57-29C0-4C99-8EA3-39DCE629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31CC8-DF8B-4A33-A6FB-7613704B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92493-350A-4C58-A3B5-A56E0D8B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41F2F-2609-4E89-8F13-F2D2A294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00D03-55EE-46F0-848E-28E929A0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B9E18-F51C-4086-AA8D-A6B5B470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531-8ADF-48B9-AE95-E94D18F6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E93B0-DA56-486D-876C-08663A7D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72192-43B9-4F64-BCDF-6AC4C664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6E9E9-1D67-478A-B337-40BF7F08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8B203-29B2-475F-ACE7-65CF449B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2A9C1-CA88-4BF5-8953-60263932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73F27-B989-40FF-A5E3-89056E40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3BE94-79A5-47AA-A73A-ECAFA713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0568D-1FFC-493D-96B3-4073ADD5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81478-2C60-41C0-B44A-42B996D4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C739D-9F96-4A9D-BCB5-19F6A013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5072-F772-4CED-BCBF-D59F3311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BF241-C367-438F-8373-FD9DE48A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68CDE-CAA9-44EA-840B-E1FF3095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FFF36-7C3A-4EC4-80B5-D163D9B8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6689A-D3B0-4F32-A630-1B1A708D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08E31-4A1A-4ECE-A9AC-7C16523C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D43E4-D849-48BC-B760-BCB4FE79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F97CA-FFF8-4757-895F-5D510CA5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12A0B-A2AA-4402-9B8B-E7C33B49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B100F-A9B7-4037-9064-52CBB162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3788C-4EAA-4E38-AA72-5B92E238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5FB-D914-46EE-ADD8-597D7323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F1E9E-82BA-4AAF-A325-81E53756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D12FF-1BA8-4CD7-B440-B3697760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FDAA2-F6B2-4266-B529-12FC9223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55CF3-9B23-4B04-930D-CC5E8170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1E353-5146-46BD-BBF7-617A3194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BD259-4176-49B5-B887-EEA34D58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142CF-6694-43F3-9CE5-D88247CB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29856-8DE1-4C5A-A287-789F7849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B25D1-DE39-44BA-A785-469268C2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A2829-AACE-4C58-99F4-F1FF05D4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E02D-F0DA-4BE0-B7A0-9A82208F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5018D-F92B-4CA3-9556-B4B273A5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3A3-FC46-4E8D-82A2-D22ECD08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D5C0-77D1-4A08-9A91-F469771C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544-5201-430C-AC46-EFE14440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72D4-2F36-470E-B7D0-5F06694C8B9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D822-E1BA-4550-A467-1B6DEE1502F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78CD-0020-48C5-BB5E-58ABD98D743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3715-9F21-4650-B72A-246E81CA5FF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AF51-B28E-4184-BD32-8BC29B99C72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tatic.oper.ru/data/site/puzanov-1s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pics.livejournal.com/alex_777_70/pic/000yyebx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pics.livejournal.com/alex_777_70/pic/000yzxz5/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714240" y="1214280"/>
            <a:ext cx="74296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бы помнил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ая православная церковь и военные священники на фронта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мировой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-размыш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3528972_Protoierei_Boris_Bartov (580x398, 69Kb)"/>
          <p:cNvPicPr/>
          <p:nvPr/>
        </p:nvPicPr>
        <p:blipFill>
          <a:blip r:embed="rId1"/>
          <a:srcRect l="0" t="0" r="52633" b="589"/>
          <a:stretch/>
        </p:blipFill>
        <p:spPr>
          <a:xfrm>
            <a:off x="3857760" y="3357720"/>
            <a:ext cx="1785960" cy="256680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5" descr="3528972_Protoierei_Aleksandr_Smolkin (532x366, 52Kb)"/>
          <p:cNvPicPr/>
          <p:nvPr/>
        </p:nvPicPr>
        <p:blipFill>
          <a:blip r:embed="rId2"/>
          <a:srcRect l="0" t="0" r="47713" b="18813"/>
          <a:stretch/>
        </p:blipFill>
        <p:spPr>
          <a:xfrm>
            <a:off x="785880" y="3357720"/>
            <a:ext cx="2163600" cy="257148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8" descr="3528972_Protodiakon_Nikolai_Popovich (580x390, 47Kb)"/>
          <p:cNvPicPr/>
          <p:nvPr/>
        </p:nvPicPr>
        <p:blipFill>
          <a:blip r:embed="rId3"/>
          <a:srcRect l="0" t="0" r="50143" b="4235"/>
          <a:stretch/>
        </p:blipFill>
        <p:spPr>
          <a:xfrm>
            <a:off x="4857840" y="571680"/>
            <a:ext cx="1906560" cy="2571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1" descr="3528972_Arhimandrit_Petr_Kycher (580x342, 41Kb)"/>
          <p:cNvPicPr/>
          <p:nvPr/>
        </p:nvPicPr>
        <p:blipFill>
          <a:blip r:embed="rId4"/>
          <a:srcRect l="0" t="0" r="52991" b="4829"/>
          <a:stretch/>
        </p:blipFill>
        <p:spPr>
          <a:xfrm>
            <a:off x="571680" y="571680"/>
            <a:ext cx="2049120" cy="257148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4" descr="3528972_Mitropolit_Tverskoi_i_Kashinskii_Aleksii_Konoplyov (580x447, 68Kb)"/>
          <p:cNvPicPr/>
          <p:nvPr/>
        </p:nvPicPr>
        <p:blipFill>
          <a:blip r:embed="rId5"/>
          <a:srcRect l="0" t="0" r="48443" b="1835"/>
          <a:stretch/>
        </p:blipFill>
        <p:spPr>
          <a:xfrm>
            <a:off x="6929280" y="571680"/>
            <a:ext cx="1733760" cy="25430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7" descr="3528972_Monahinya_Adriana_V_miry_Nataliya_Vladimirovna_Malisheva (580x400, 52Kb)"/>
          <p:cNvPicPr/>
          <p:nvPr/>
        </p:nvPicPr>
        <p:blipFill>
          <a:blip r:embed="rId6"/>
          <a:srcRect l="0" t="0" r="52274" b="2079"/>
          <a:stretch/>
        </p:blipFill>
        <p:spPr>
          <a:xfrm>
            <a:off x="2857680" y="571680"/>
            <a:ext cx="1838160" cy="25714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20" descr="3528972_Arhimandrit_Alipii_v_miry_Ivan_Mihailovich_Voronov (580x387, 53Kb)"/>
          <p:cNvPicPr/>
          <p:nvPr/>
        </p:nvPicPr>
        <p:blipFill>
          <a:blip r:embed="rId7"/>
          <a:srcRect l="0" t="0" r="46572" b="0"/>
          <a:stretch/>
        </p:blipFill>
        <p:spPr>
          <a:xfrm>
            <a:off x="6357960" y="3357720"/>
            <a:ext cx="20066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" descr="3528972_Protoierei_Boris_Bartov (580x398, 69Kb)"/>
          <p:cNvPicPr/>
          <p:nvPr/>
        </p:nvPicPr>
        <p:blipFill>
          <a:blip r:embed="rId1"/>
          <a:srcRect l="0" t="0" r="52633" b="589"/>
          <a:stretch/>
        </p:blipFill>
        <p:spPr>
          <a:xfrm>
            <a:off x="1071720" y="500040"/>
            <a:ext cx="2038320" cy="2928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3528972_Protoierei_Boris_Bartov (580x398, 69Kb)"/>
          <p:cNvPicPr/>
          <p:nvPr/>
        </p:nvPicPr>
        <p:blipFill>
          <a:blip r:embed="rId2"/>
          <a:srcRect l="47016" t="0" r="0" b="0"/>
          <a:stretch/>
        </p:blipFill>
        <p:spPr>
          <a:xfrm>
            <a:off x="5715000" y="500040"/>
            <a:ext cx="2270160" cy="292896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3"/>
          <p:cNvSpPr/>
          <p:nvPr/>
        </p:nvSpPr>
        <p:spPr>
          <a:xfrm>
            <a:off x="428760" y="3655800"/>
            <a:ext cx="821520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иерей Борис Бартов (1926 г.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шел Северо-Западный, Украинский, Белорусский фронт техником. Служил на военных аэродромах, готовил штурмовики к боевым вылетам и…молился. Награжден орденом Отечественной войны II степени, десятью медалями. Ныне — почетный настоятель Спасо-Преображенского храма города Кунг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5" descr="3528972_Protoierei_Aleksandr_Smolkin (532x366, 52Kb)"/>
          <p:cNvPicPr/>
          <p:nvPr/>
        </p:nvPicPr>
        <p:blipFill>
          <a:blip r:embed="rId1"/>
          <a:srcRect l="0" t="0" r="47713" b="18813"/>
          <a:stretch/>
        </p:blipFill>
        <p:spPr>
          <a:xfrm>
            <a:off x="1000080" y="571680"/>
            <a:ext cx="2428920" cy="2887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3528972_Protoierei_Aleksandr_Smolkin (532x366, 52Kb)"/>
          <p:cNvPicPr/>
          <p:nvPr/>
        </p:nvPicPr>
        <p:blipFill>
          <a:blip r:embed="rId2"/>
          <a:srcRect l="52331" t="0" r="0" b="0"/>
          <a:stretch/>
        </p:blipFill>
        <p:spPr>
          <a:xfrm>
            <a:off x="6072120" y="571680"/>
            <a:ext cx="2000160" cy="28796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3"/>
          <p:cNvSpPr/>
          <p:nvPr/>
        </p:nvSpPr>
        <p:spPr>
          <a:xfrm>
            <a:off x="428760" y="3655800"/>
            <a:ext cx="828648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иерей Александр Смолкин(1926-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7 лет, в 1943 году, Александр Смолкин ушел на фронт, воевал на 1-м Прибалтийском фронте. Получил тяжелое ранение.  Войну  закончил в Германии. Старший сержант Александр Смолкин был награжден медаля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взятие Будапеш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взятие Ве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победу над Германи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польской медал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8" descr="3528972_Protodiakon_Nikolai_Popovich (580x390, 47Kb)"/>
          <p:cNvPicPr/>
          <p:nvPr/>
        </p:nvPicPr>
        <p:blipFill>
          <a:blip r:embed="rId1"/>
          <a:srcRect l="0" t="0" r="50143" b="4235"/>
          <a:stretch/>
        </p:blipFill>
        <p:spPr>
          <a:xfrm>
            <a:off x="1000080" y="500040"/>
            <a:ext cx="2143080" cy="2890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3528972_Protodiakon_Nikolai_Popovich (580x390, 47Kb)"/>
          <p:cNvPicPr/>
          <p:nvPr/>
        </p:nvPicPr>
        <p:blipFill>
          <a:blip r:embed="rId2"/>
          <a:srcRect l="49576" t="0" r="0" b="0"/>
          <a:stretch/>
        </p:blipFill>
        <p:spPr>
          <a:xfrm>
            <a:off x="5929200" y="500040"/>
            <a:ext cx="2197080" cy="29289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357120" y="3584520"/>
            <a:ext cx="842976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диакон Николай Попович (1926 г.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43 году Николай Попович ушел добровольцем на фронт. Окончив сержантскую школу, стал командиром пулеметного расчета «Максим». В 1944 году после тяжелой битвы на реке Неман  награжден орденом Красной Звезды.  Пройдя с боями Белоруссию, Литву и Польшу, был тяжело ранен на подступах к Восточной Пруссии, впоследствии демобилизов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11" descr="3528972_Arhimandrit_Petr_Kycher (580x342, 41Kb)"/>
          <p:cNvPicPr/>
          <p:nvPr/>
        </p:nvPicPr>
        <p:blipFill>
          <a:blip r:embed="rId1"/>
          <a:srcRect l="0" t="0" r="52991" b="4829"/>
          <a:stretch/>
        </p:blipFill>
        <p:spPr>
          <a:xfrm>
            <a:off x="1000080" y="500040"/>
            <a:ext cx="2335320" cy="2928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3528972_Arhimandrit_Petr_Kycher (580x342, 41Kb)"/>
          <p:cNvPicPr/>
          <p:nvPr/>
        </p:nvPicPr>
        <p:blipFill>
          <a:blip r:embed="rId2"/>
          <a:srcRect l="48436" t="0" r="0" b="0"/>
          <a:stretch/>
        </p:blipFill>
        <p:spPr>
          <a:xfrm>
            <a:off x="5429160" y="500040"/>
            <a:ext cx="2560680" cy="29289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"/>
          <p:cNvSpPr/>
          <p:nvPr/>
        </p:nvSpPr>
        <p:spPr>
          <a:xfrm>
            <a:off x="428760" y="3443760"/>
            <a:ext cx="82864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мандрит Петр (Кучер) (1926 г.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ентябре 1943 года в возрасте 17 лет был призван в армию. Участвовал в освобождении Молдавии, Румынии, Болгарии, Югославии, Венгрии,  Чехословакии, Австр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граждён орденом Славы III степени, орденом Отечественной войны II степени, медалями «За отвагу», «За освобождение Белграда», «За взятие Будапешта», «За взятие Вены» 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4" descr="3528972_Mitropolit_Tverskoi_i_Kashinskii_Aleksii_Konoplyov (580x447, 68Kb)"/>
          <p:cNvPicPr/>
          <p:nvPr/>
        </p:nvPicPr>
        <p:blipFill>
          <a:blip r:embed="rId1"/>
          <a:srcRect l="0" t="0" r="48443" b="1835"/>
          <a:stretch/>
        </p:blipFill>
        <p:spPr>
          <a:xfrm>
            <a:off x="1071720" y="500040"/>
            <a:ext cx="1996920" cy="2928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3528972_Mitropolit_Tverskoi_i_Kashinskii_Aleksii_Konoplyov (580x447, 68Kb)"/>
          <p:cNvPicPr/>
          <p:nvPr/>
        </p:nvPicPr>
        <p:blipFill>
          <a:blip r:embed="rId2"/>
          <a:srcRect l="51564" t="0" r="0" b="0"/>
          <a:stretch/>
        </p:blipFill>
        <p:spPr>
          <a:xfrm>
            <a:off x="6143760" y="500040"/>
            <a:ext cx="1928520" cy="294804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3"/>
          <p:cNvSpPr/>
          <p:nvPr/>
        </p:nvSpPr>
        <p:spPr>
          <a:xfrm>
            <a:off x="428760" y="3586680"/>
            <a:ext cx="82864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рополит Тверской и Кашинский Алексий (Коноплёв) (1910-1988)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л мобилизован в октябре 1941. 5 мая 1942 получил ранение, а после излечения вновь отправлен на передовую. После вторичного ранения был откомандирован в военно-дорожный отряд. Награждён медалью «За боевые заслуги», орденом Отечественной войны I степени и рядом других военных наград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Рисунок 17" descr="3528972_Monahinya_Adriana_V_miry_Nataliya_Vladimirovna_Malisheva (580x400, 52Kb)"/>
          <p:cNvPicPr/>
          <p:nvPr/>
        </p:nvPicPr>
        <p:blipFill>
          <a:blip r:embed="rId1"/>
          <a:srcRect l="0" t="0" r="52274" b="2079"/>
          <a:stretch/>
        </p:blipFill>
        <p:spPr>
          <a:xfrm>
            <a:off x="1143000" y="500040"/>
            <a:ext cx="2093760" cy="2928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3528972_Monahinya_Adriana_V_miry_Nataliya_Vladimirovna_Malisheva (580x400, 52Kb)"/>
          <p:cNvPicPr/>
          <p:nvPr/>
        </p:nvPicPr>
        <p:blipFill>
          <a:blip r:embed="rId2"/>
          <a:srcRect l="48013" t="0" r="0" b="0"/>
          <a:stretch/>
        </p:blipFill>
        <p:spPr>
          <a:xfrm>
            <a:off x="5715000" y="500040"/>
            <a:ext cx="2233440" cy="29289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3"/>
          <p:cNvSpPr/>
          <p:nvPr/>
        </p:nvSpPr>
        <p:spPr>
          <a:xfrm>
            <a:off x="428760" y="3608640"/>
            <a:ext cx="8286480" cy="23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ахиня Адри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миру Наталия Владимировна Малышева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1921-20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нимала участие в обороне Москвы, в боях на Курской дуге и под Сталинградом. В Сталинграде вела переговоры с фашистами, призывая их сдаться. Дошла до Берл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20" descr="3528972_Arhimandrit_Alipii_v_miry_Ivan_Mihailovich_Voronov (580x387, 53Kb)"/>
          <p:cNvPicPr/>
          <p:nvPr/>
        </p:nvPicPr>
        <p:blipFill>
          <a:blip r:embed="rId1"/>
          <a:srcRect l="0" t="0" r="46572" b="0"/>
          <a:stretch/>
        </p:blipFill>
        <p:spPr>
          <a:xfrm>
            <a:off x="1071720" y="500040"/>
            <a:ext cx="2350800" cy="29289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3528972_Arhimandrit_Alipii_v_miry_Ivan_Mihailovich_Voronov (580x387, 53Kb)"/>
          <p:cNvPicPr/>
          <p:nvPr/>
        </p:nvPicPr>
        <p:blipFill>
          <a:blip r:embed="rId2"/>
          <a:srcRect l="50007" t="0" r="0" b="-2139"/>
          <a:stretch/>
        </p:blipFill>
        <p:spPr>
          <a:xfrm>
            <a:off x="5786280" y="500040"/>
            <a:ext cx="2214720" cy="30114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428760" y="3654720"/>
            <a:ext cx="8286480" cy="23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мандрит Алипий (Иван Михайлович Ворон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14-1975)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 1942 года на фронтах Великой Отечественной войны. Прошёл боевой путь от Москвы до Берлина в составе Четвёртой танковой армии. Участвовал во многих операциях на Центральном, Западном, Брянском, 1-м Украинском фронтах. Награждён орденами и меда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puzanov-1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00160" y="500040"/>
            <a:ext cx="5173920" cy="35719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2"/>
          <p:cNvSpPr/>
          <p:nvPr/>
        </p:nvSpPr>
        <p:spPr>
          <a:xfrm>
            <a:off x="428760" y="4151160"/>
            <a:ext cx="828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щенник псковского села Хохловы Горки Порховского района Федор Пузанов. 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Командир 5-й Ленинградской партизанской бригады Герой Советского Союза полковник Константин Дионисьевич Карицкий вручает Фёдору Пузанову мед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1" descr="За помощь партизанам священнослужителей массово расстреливали и сжигали"/>
          <p:cNvPicPr/>
          <p:nvPr/>
        </p:nvPicPr>
        <p:blipFill>
          <a:blip r:embed="rId1"/>
          <a:stretch/>
        </p:blipFill>
        <p:spPr>
          <a:xfrm>
            <a:off x="1857240" y="500040"/>
            <a:ext cx="5214960" cy="394488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2"/>
          <p:cNvSpPr/>
          <p:nvPr/>
        </p:nvSpPr>
        <p:spPr>
          <a:xfrm>
            <a:off x="428760" y="4500720"/>
            <a:ext cx="828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тель церкви в Старом Селе, ныне Ракитовского района Ровенской области, Николай Иванович Пыжевич отца Николая сожгли вместе с ним и его семьей члены отряда кар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500040" y="36144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57120" y="110520"/>
            <a:ext cx="842976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граф урок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спросят нас, что мы делаем,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ответим: мы вспоминаем.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ы память человечеств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Бредбе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" descr="000yyeb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500040"/>
            <a:ext cx="6259320" cy="421488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2"/>
          <p:cNvSpPr/>
          <p:nvPr/>
        </p:nvSpPr>
        <p:spPr>
          <a:xfrm>
            <a:off x="428760" y="478620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тель церкви во имя Покрова Богоматери в селе Хворосно Логишинского района Пинской области священник Иоанн Лойк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" descr="000yzxz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3040" y="500040"/>
            <a:ext cx="6140520" cy="442908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2"/>
          <p:cNvSpPr/>
          <p:nvPr/>
        </p:nvSpPr>
        <p:spPr>
          <a:xfrm>
            <a:off x="428760" y="500076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тель церкви с. Видони Псковской епархии священник Мефодий Белов провожает свою дочь Руфину -партизанскую разведчицу. 1943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428760" y="665640"/>
            <a:ext cx="8286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явления патриотической деятельности русской православной церкв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рально-нравственное влияние - послания, проповеди, патриотическая агитация среди населения, отпевание жертв боевых действий, причащение перед бо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териальные - сбор денежных средств, одежды, драгоценностей, медикаментов в Фонд оборо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ужба церковнослужителей в рядах действующей армии и участие их в партизанском движ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ощь раненым бойцам, шефство над госпиталями и создание санитарных пунктов и т. 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ощь мирному населению.</a:t>
            </a:r>
            <a:r>
              <a:rPr b="0" lang="ru-RU" sz="2400" spc="-1" strike="noStrike">
                <a:solidFill>
                  <a:srgbClr val="548dd4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"/>
          <p:cNvSpPr/>
          <p:nvPr/>
        </p:nvSpPr>
        <p:spPr>
          <a:xfrm>
            <a:off x="428760" y="2291400"/>
            <a:ext cx="828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спасиб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вид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500040" y="379080"/>
            <a:ext cx="79297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щенник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ужитель культа православной церкви, по сану средний между дьяконом и епископ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щеннослужитель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ужитель культа, совершающий богослу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арь Ожего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7" descr="Святейший Патриарх Кирилл совершил Божественную литургию в кафедральном Успенском соборе Смоленска : Русская Православная Церков"/>
          <p:cNvPicPr/>
          <p:nvPr/>
        </p:nvPicPr>
        <p:blipFill>
          <a:blip r:embed="rId1"/>
          <a:stretch/>
        </p:blipFill>
        <p:spPr>
          <a:xfrm>
            <a:off x="428760" y="428760"/>
            <a:ext cx="82724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9" descr="&quot;Через Смоленск я узнал Россию&quot;. . 10 высказываний патриарха…"/>
          <p:cNvPicPr/>
          <p:nvPr/>
        </p:nvPicPr>
        <p:blipFill>
          <a:blip r:embed="rId1"/>
          <a:stretch/>
        </p:blipFill>
        <p:spPr>
          <a:xfrm>
            <a:off x="428760" y="428760"/>
            <a:ext cx="8245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5" descr="Святейший Патриарх Московский и всея Руси Кирилл"/>
          <p:cNvPicPr/>
          <p:nvPr/>
        </p:nvPicPr>
        <p:blipFill>
          <a:blip r:embed="rId1"/>
          <a:stretch/>
        </p:blipFill>
        <p:spPr>
          <a:xfrm>
            <a:off x="500040" y="428760"/>
            <a:ext cx="817740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3" descr="Смоленская и Вяземская епархия"/>
          <p:cNvPicPr/>
          <p:nvPr/>
        </p:nvPicPr>
        <p:blipFill>
          <a:blip r:embed="rId1"/>
          <a:stretch/>
        </p:blipFill>
        <p:spPr>
          <a:xfrm>
            <a:off x="428760" y="428760"/>
            <a:ext cx="825660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7" descr="Святейший Патриарх Московский и всея Руси Кирилл"/>
          <p:cNvPicPr/>
          <p:nvPr/>
        </p:nvPicPr>
        <p:blipFill>
          <a:blip r:embed="rId1"/>
          <a:stretch/>
        </p:blipFill>
        <p:spPr>
          <a:xfrm>
            <a:off x="428760" y="428760"/>
            <a:ext cx="8272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428760" y="432720"/>
            <a:ext cx="82864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шиствующие разбойники напали на нашу Родину. Попирая всякие договоры и обещания, они внезапно обрушились на нас, и вот кровь мирных граждан уже орошает родную земл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 не первый раз приходится русскому народу выдерживать такие испытания. С Божией помощью, и на сей раз он развеет в прах фашистскую вражескую силу... Нам, пастырям Церкви, в то время, когда Отечество призывает всех на подвиги, недостойно будет лишь молчаливо посматривать на то, что кругом делается</a:t>
            </a:r>
            <a:r>
              <a:rPr b="1" lang="ru-RU" sz="2400" spc="-1" strike="noStrike">
                <a:solidFill>
                  <a:srgbClr val="548dd4"/>
                </a:solidFill>
                <a:latin typeface="Times New Roman"/>
                <a:ea typeface="Times New Roman"/>
              </a:rPr>
              <a:t>...</a:t>
            </a:r>
            <a:r>
              <a:rPr b="1" lang="ru-RU" sz="2400" spc="-1" strike="noStrike">
                <a:solidFill>
                  <a:srgbClr val="e36c0a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 благословляет всех православных на защиту священных границ нашей Родины. Господь нам дарует побед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арший Местоблюст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рополит Сергий (Старгородски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9T13:10:49Z</dcterms:created>
  <dc:creator>Вера</dc:creator>
  <dc:description/>
  <dc:language>en-US</dc:language>
  <cp:lastModifiedBy>Вера</cp:lastModifiedBy>
  <dcterms:modified xsi:type="dcterms:W3CDTF">2015-03-28T15:34:34Z</dcterms:modified>
  <cp:revision>86</cp:revision>
  <dc:subject/>
  <dc:title>Слайд 1</dc:title>
</cp:coreProperties>
</file>